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855-7D50-41BC-B5A1-040A4EA77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1157-F45C-411F-8225-4574A6E1FB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16D-C0DE-4912-8D93-55A95BE4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865-D425-4A9B-BCDA-36739F4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F71-2440-4310-80A5-E606F6CD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9BC-4B3D-420A-B2A2-3FD751C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72B-9F42-470E-AA6A-94ACB9D5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F52-D939-46AC-9CF6-0FA9F7F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CBA-861D-413B-8266-26057E0E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6EC-4ECF-43F2-A525-357719A6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5E5-C009-4296-AFF9-AB0B1EF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81B-C7AC-4954-93E8-70BA9D2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5F6-3F4A-460E-8718-42B28BD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26F-4DEA-4427-A102-60B7AA56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B15B-E10B-4760-88EB-CC5EB9D4DA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 Journal 4 Rad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MOV000009.avi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52:04Z</dcterms:created>
  <dc:creator>Jennifer</dc:creator>
  <dc:description/>
  <dc:language>en-US</dc:language>
  <cp:lastModifiedBy>Jennifer</cp:lastModifiedBy>
  <dcterms:modified xsi:type="dcterms:W3CDTF">2009-07-01T02:53:23Z</dcterms:modified>
  <cp:revision>1</cp:revision>
  <dc:subject/>
  <dc:title>Media Journal 4 Radio</dc:title>
</cp:coreProperties>
</file>