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AEA3-7A11-4096-A700-79EE66D36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4E9D-4D99-4D31-8E47-8F45668D25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B29-A922-4C80-B1A4-6F9FB73E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5E1-213F-4562-B06C-1A81810E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1CD-535B-46E4-AA29-865532A6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66B-0985-468D-9146-5920FA6A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FE7-79B4-44C5-BB55-30CC8B60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D46-C42C-4709-A05D-4272EEBE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A8C-D886-456C-85C3-431E6BF2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AD3-8CED-459F-BAEB-15E05DE5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714-8193-4052-9E1A-3F8188E6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07C-37ED-4CFA-B39F-AA49BE9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764-1FF0-4ABD-BA67-54DD0C5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568-7DD7-4DF3-9FCA-116B3A67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D07A-7197-4E9C-8E80-A866A78E43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 Journal 4 Rad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MOV000009.avi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52:04Z</dcterms:created>
  <dc:creator>Jennifer</dc:creator>
  <dc:description/>
  <dc:language>en-US</dc:language>
  <cp:lastModifiedBy>Jennifer</cp:lastModifiedBy>
  <dcterms:modified xsi:type="dcterms:W3CDTF">2009-07-01T02:53:23Z</dcterms:modified>
  <cp:revision>1</cp:revision>
  <dc:subject/>
  <dc:title>Media Journal 4 Radio</dc:title>
</cp:coreProperties>
</file>