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C085-C3BF-4043-A418-84973CCF5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550B-4645-4A3F-991A-B71DB89388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A5C-27A0-480A-BEBA-F6A8B324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B0C-8560-42D3-B656-9C83255B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27D-A8E8-4C3D-A66B-2633AAB4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B3D-AD13-44F3-858E-7661A1A4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8AC-40DB-4F1D-9350-D3E59967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FED-F6B0-44E5-B626-D3543236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B9E-9E56-423B-865D-39D9306E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1FE-7450-4D98-BF3C-E9F4F625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92A-17CD-486C-BB32-1798FF1C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98F-E582-4E8C-B892-E35E147D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741-0690-43EC-8233-7764D1B0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9CF-7EBA-4BC5-B3B1-F58E0F1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1081-4365-41A7-9965-281583C721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 Journal 4 Rad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MOV000009.avi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8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2:52:04Z</dcterms:created>
  <dc:creator>Jennifer</dc:creator>
  <dc:description/>
  <dc:language>en-US</dc:language>
  <cp:lastModifiedBy>Jennifer</cp:lastModifiedBy>
  <dcterms:modified xsi:type="dcterms:W3CDTF">2009-07-01T02:53:23Z</dcterms:modified>
  <cp:revision>1</cp:revision>
  <dc:subject/>
  <dc:title>Media Journal 4 Radio</dc:title>
</cp:coreProperties>
</file>