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B67C-8BCD-4E4D-A375-ABA9E435E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B36E-9B3C-45A9-B98C-F47893F2CF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51C-7CA8-4FF3-86CF-44965F56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E70-AA88-4B37-A35F-A2E53D1C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0CF-89CE-4CAD-9D6F-A1211339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E50-51E2-456D-AAFE-A09914FF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F1D-22BF-45FB-A615-2B831E39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651-2B0B-4EB9-AB44-FE204CC7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6AB-2FCD-4A62-AB32-24656FC2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9BB-49B9-4B23-BFB0-2A9E183E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97E-5747-413A-8F71-2D1D358A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259-BA4F-420B-AEBB-F58BF9AD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C52-9CBF-40E1-9918-7352BC9A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A56-A726-4A79-87A4-CA2D350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C4D4-2AA9-4E63-AD05-537079734A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ia Journal 4 Rad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MOV000009.avi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8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52:04Z</dcterms:created>
  <dc:creator>Jennifer</dc:creator>
  <dc:description/>
  <dc:language>en-US</dc:language>
  <cp:lastModifiedBy>Jennifer</cp:lastModifiedBy>
  <dcterms:modified xsi:type="dcterms:W3CDTF">2009-07-01T02:53:23Z</dcterms:modified>
  <cp:revision>1</cp:revision>
  <dc:subject/>
  <dc:title>Media Journal 4 Radio</dc:title>
</cp:coreProperties>
</file>