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E1C18-DC4E-42A6-921D-AB8B02265C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F6016-F4D9-4C38-98CE-AF9382E811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A381-BF85-4E42-9A32-60BE1260B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1CF0-4BBF-4BBE-9952-D39D21600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A40D-3F26-4A05-BA93-FF05BE553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CD75-DCE6-41CE-9D17-CA0F4529A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DB0D4-1D01-4BEA-AA40-D6785D1CF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22F42-C681-404B-912D-675C2F8F1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1F2C7-4D64-4389-9E3D-FB195EF90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37010-BFC9-4387-9243-2E1A56129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C4407-9CDC-485D-9A7B-ABEE2FAA3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4DFBD-D645-416F-AB32-546BE57ED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F5F45-8513-438A-B3F1-D07EF586A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DDC4-FD4B-4734-ABB7-341917F15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5138C-1DCD-4085-8DA5-838E20FDD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C56D9-26DE-4E7A-AFED-985699747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0B0FD-CD98-4053-87EC-C7AC9139E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A6C9D-C071-4638-93CC-CB42A37D6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3F83F-12EC-4CDC-B01D-5769EDC53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832A9-E9CE-4126-A68E-836061033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E4D0B-7B5A-4FF7-B61E-45FF227A7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F17CA-7159-44E9-89BB-671598B7C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583AE-5205-49B7-A99E-1EF407C5B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09999-9A58-4CD8-832A-F6E3A5CA5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9ECE-DBF3-4FC5-AD45-283C92A6D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8E1A2-9E4D-407E-BCDB-070AF00F5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BDCBA-5B57-4E12-8C03-98192C9C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D3DB6-80E3-42C1-A40B-5DDBCBDF6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918DD-EBD4-4618-8C27-5F891CA0C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BBA41-6D87-4B00-9A85-B02B768E2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A5586-CD73-4508-B720-82FAED636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5DEB1-3AA3-475A-B701-EF769F80E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C6FD9-CAEF-44C7-969F-911F529CD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AB60A-1508-4D89-A638-C551CCDB4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4A45A-3897-4C11-BED9-6503B8825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AECF-86F1-469D-BC47-8072471CC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79AEE-D16A-49B2-8367-F6A155464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8A674-21B9-4117-B28A-DC71A7262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CDCE6-2709-4FAA-8AF6-D7763C019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00E97-3D51-4749-817D-FA155C50B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9A3F1-1A3F-4DFA-9224-8C3201D9A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026C3-8DB6-4893-9C1C-40E3B637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29832-EE94-4611-9FD0-2EA40A992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34B2A-D634-4282-A0AC-9F3C85F10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6E340-D39E-460B-80DF-AC0249CA5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9E38-11F1-48BC-B948-79320D432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C948-9B2B-4136-B98B-9AE6D0CFC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B6B5-0164-4AE0-9C2C-F6A53CD26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750C-3573-4F26-A891-A4FD7306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7F44-876B-45FC-A405-FC8DB04F4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FD3D6-36EF-4463-9CC5-DCE5007DE3B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5A94B-0925-46B4-9A23-0EE0A0D4DEA0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CC882-2CDB-401D-BA74-129A90852E82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D8038-9F35-47F1-940E-ED032AEA58E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 </a:t>
            </a:r>
            <a:br>
              <a:rPr sz="4500"/>
            </a:br>
            <a:br>
              <a:rPr sz="4500"/>
            </a:br>
            <a:br>
              <a:rPr sz="4500"/>
            </a:b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Media Journal 3 </a:t>
            </a:r>
            <a:br>
              <a:rPr sz="4500"/>
            </a:b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The Other Sister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3" name="MOV000008.avi" descr=""/>
          <p:cNvPicPr/>
          <p:nvPr/>
        </p:nvPicPr>
        <p:blipFill>
          <a:blip r:embed="rId1"/>
          <a:stretch/>
        </p:blipFill>
        <p:spPr>
          <a:xfrm>
            <a:off x="1523880" y="198108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475" fill="hold"/>
                                        <p:tgtEl>
                                          <p:spTgt spid="2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2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1T02:39:23Z</dcterms:created>
  <dc:creator>Jennifer</dc:creator>
  <dc:description/>
  <dc:language>en-US</dc:language>
  <cp:lastModifiedBy>Jennifer</cp:lastModifiedBy>
  <dcterms:modified xsi:type="dcterms:W3CDTF">2009-07-01T02:50:53Z</dcterms:modified>
  <cp:revision>2</cp:revision>
  <dc:subject/>
  <dc:title>Slide 1</dc:title>
</cp:coreProperties>
</file>