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5E13-9125-41C6-BA75-721CDB5D0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1173-39DF-4434-A3BE-F2CBE9023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14A-076E-4641-A4F3-55747596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012-6C4E-41F9-96F4-6F3CBF27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1FC-7611-4D01-8270-3C2FA3D9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330-2C58-4BEC-83FB-93B1960D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C154-0C0F-489B-8E65-F2F7D7CA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A7E1-46FD-4EEC-B7CB-6D9595E9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A4D4-9907-4A42-82D0-FE46B081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847A-4B1F-462B-88CB-E81C2096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25D8-6E12-41DB-95BC-546D58EF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B026-F72E-4330-BD50-C2D01FD9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3EF9-E543-488F-8C34-040E68EC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B3C-0A29-488F-B855-13D60358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E970-B0BD-4C18-A4B0-66494151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6954-8664-4221-8BB4-FDEFE671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BE85-92CF-41A3-9547-9C78719A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5BBA-BCEF-46CB-82F7-6B1C0217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82D3-E1EF-4FF5-9320-6A428F7C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610E-D8C2-4FB4-8782-C9EFB003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4BE5-D7C9-4FF8-BEA1-7A392715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E4F3-10AA-45CD-8BB6-CA0F0B91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E6FDA-34AE-4ACE-8504-351BA413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711A-918D-4351-845B-F31BFA7B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F3B-81FF-46D8-AA04-6169E27F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314E-F952-43A4-9166-32D92649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B940A-AE5A-4042-B70D-CEC83CED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897A-F939-4C96-9F18-B02BC150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0620-D69A-48CA-BD17-5503F2F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1835-E62D-428F-B414-66E1C2D7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E10F-09E4-4949-AA6B-ED794B9C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C2DD-192F-4A6F-94BF-64306392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ED73B-76CB-40AE-AE66-A4200EE6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843E-17DF-4F70-9A38-0D641184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6B16-C6ED-42AF-9EBA-9ED6E4B1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894-0996-4984-BB3B-5C8475E1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961B5-657F-4D4F-993D-970466DC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E955-5D63-49D1-87BD-F0515BA2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F141D-E50A-4DBC-8E75-8B4F6B37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E274-6084-48F4-8996-BEA9BB8E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01A46-10F1-42BC-9FD3-DEDA309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16667-687C-43E0-984C-C6FA242F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6E37-5782-42ED-A47A-4C1E554C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15BCA-3914-42B3-976F-FAC6DD99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3B564-6B53-47EB-96DE-EC4CBDE5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769-AD0E-4354-AD01-C57BA3DF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D8D-58E3-4C1C-9675-0D07E44F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E75-78F4-41CC-8223-C6752BD1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FAE-D516-434F-BD28-DDEC5E2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5E4-B5E6-4E9F-B62E-0EC2869D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80FB-445A-4A0C-B9A2-75A97D97C2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F5F2-BC85-40CC-8A9C-3FE2B430A61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3828-E77C-4CC6-9B3C-E1EE18618D8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AA2E-48C4-486B-9810-033099E7BEC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edia Journal 3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Other Sister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MOV000008.avi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75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2:39:23Z</dcterms:created>
  <dc:creator>Jennifer</dc:creator>
  <dc:description/>
  <dc:language>en-US</dc:language>
  <cp:lastModifiedBy>Jennifer</cp:lastModifiedBy>
  <dcterms:modified xsi:type="dcterms:W3CDTF">2009-07-01T02:50:53Z</dcterms:modified>
  <cp:revision>2</cp:revision>
  <dc:subject/>
  <dc:title>Slide 1</dc:title>
</cp:coreProperties>
</file>