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0F97-9362-496A-A1FC-4689B7F2E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D2D6-BE18-422D-AB34-D2524DB2A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AF2-66C8-4AF0-9CB6-38B7D3A3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820-85CF-4D3B-A331-02C7700D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5FB-A154-42D0-BCC2-93E90776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CDC-7C4C-4986-A564-7CD95089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8484-581B-4F36-ADBE-374A130E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0712-BF62-4D27-8D41-5940B4ED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8888-5832-488B-A11D-5A0C359C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F2FF-09F7-49ED-89BA-484478E0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ABD7-15B8-441E-81EE-38781A9C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CC4A-4C9F-44B1-BE38-7836E516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B1E6-BE4E-4B00-9926-5620B424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7D9-B0A5-4ACA-9059-74892E47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370A-3CD8-4D1B-9EC3-9F9F8C23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FDA5-4AE0-4B31-8C4E-345FF5B3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2AE5-6949-4433-BDD2-A763D194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C357-1259-4EF8-BA7F-BB5507E8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32AD-BCCC-4681-8234-E6744F00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70ACF-EF96-4B68-ADD7-D1FB744A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6FFDE-F0A8-4378-A166-D7FFD875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E1898-7E92-4A03-A42E-059B9FF3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80CAE-6DED-4EB4-8D02-264CE09A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BE646-AF0C-41F0-93E1-0B0E139B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4A0-C069-4820-9DFD-22D76C85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B5E82-75D8-4730-B5E6-A55C5955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A3C72-AB91-40BB-9129-932F1713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A79B4-870B-4195-B85D-D5E9793A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EAE6-A907-44E8-9C8A-89F0AB13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AB65A-D9C1-4222-A519-CBBF6075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730E9-B1EE-4361-83E1-6C3B79CC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13BC9-6922-4280-B020-156DE11A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68D45-8336-4740-B823-021995FD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A6ECF-8BF6-48D7-AB3F-4B8527CE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63836-57A1-477D-8543-93294121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C24-2E31-44A5-8EF8-50E8CC0D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6BB46-E6AE-4124-917D-7A246CD8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CDB76-C942-4CA4-91F7-DF24B94B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E7FD8-B502-4BCB-94EB-993B9137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EB105-5568-4FC7-B287-A5025B9D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9BE34-C7FD-4686-97A8-256CE731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C2C75-BA5F-401D-800F-FAB4B4D6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0CAB2-FBC5-4D47-A967-BF476D0B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6D23A-0734-4534-9F2A-EF6AA1EF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9A516-7043-4B48-9290-CC4ED0AC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5B0-1E68-44BD-9D7D-99D81D64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9E5-E736-4322-BBE2-9001BC19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D4D-F6F0-49AD-8C32-10767A3F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453-9BD0-487F-9CC9-7C70ED5D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AFE-83E4-417D-A7C3-A471894A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2472-2632-4E90-BBF2-0A83929C90F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A3AE-0A2F-4A74-9025-B6611D6695F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F797-7A8B-45E9-8448-09E98B97E25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53EB-E406-4BE7-A167-EF9578DB55C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edia Journal 3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Other Sister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MOV000008.avi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475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02:39:23Z</dcterms:created>
  <dc:creator>Jennifer</dc:creator>
  <dc:description/>
  <dc:language>en-US</dc:language>
  <cp:lastModifiedBy>Jennifer</cp:lastModifiedBy>
  <dcterms:modified xsi:type="dcterms:W3CDTF">2009-07-01T02:50:53Z</dcterms:modified>
  <cp:revision>2</cp:revision>
  <dc:subject/>
  <dc:title>Slide 1</dc:title>
</cp:coreProperties>
</file>