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5C8A-0E91-49BA-95AA-59820D470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7DF4-E22C-4FA8-9693-81E1B6635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F48-1F11-4EE5-8875-28B9EDFB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9B6-88B7-40F6-9162-0608C62E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741-7633-4431-9BDF-FE4F2958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D43-006C-49AD-8B71-648A9ED2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F8F3-7016-41AB-BDBC-5090755B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6503-998D-407E-A7EC-A68A69F4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E21D-06EB-471A-A3BE-E5889CAC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51E9-5CBA-4F27-BC39-A3359D21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6518-C474-498F-90EB-3F358F2F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96CC-959F-4F24-AD68-F840FC6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8A8F-4026-4C1C-A569-F12BDD1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076-4DAF-4479-8848-2E5B5659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170B-77FE-4FEE-86B2-CE982809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6ECD-4475-4315-B401-142BE9E6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9674-E68E-459A-B3ED-81CA2E4E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C981-9C71-4686-9362-1602F82F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40D6-B11E-4B86-9657-C32C446B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4EC3-D512-485B-8815-2D986CBB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F62F-26A8-4DD4-BA15-0CED7932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BC8C-7952-4C62-AD9F-39CBF1FF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1EA3-D81F-4469-8FC0-A2B43E6D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83F0-7037-4F15-B2F2-FB6008B8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464-02BD-4D0B-90D0-08274213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DF46-EC8B-4EC2-AE09-869F9FE4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EE41-22F7-4BFA-B8FA-005AD319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FEA8-8809-4F8C-BA11-F5F109C9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5382-BF98-4FC9-B2AE-426FEE8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3854-7C0C-43ED-B2FA-F6438FB9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3D719-3449-4BB4-929D-06B182D0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E403-8A7F-4494-B684-5B0F26AF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7CC5-C8DF-4DCB-8C5A-03E4F445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97BD-0B34-4B4F-9A14-6CA3F0FF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6597-C204-42B7-9AEA-B908AF45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052-3448-4401-A0E6-AAD70C3D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D753-72DC-4684-BC98-C7E38BF7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A282-F760-4E4B-8AEB-1D579A65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5EB2-473E-4A55-814E-43AED2CA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7825-079F-4E9F-A722-8CA5A9A5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9DBE-8B40-4A94-8D6A-DB640607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913A-1500-47E3-AB23-2FE37458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EB74-37C6-4260-A2DB-45B618C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10F2-6E80-4B05-84FC-6C227DEE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5BB5A-D931-4393-8EBD-3DC20CEB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B45-2FCD-43E1-A2C5-E6D99854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DA1-448B-4CA2-9AA8-E982A0EE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C82-EE71-4D91-9647-A89720A4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FF7-463E-4566-85E3-4B70E19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06D-E3B2-49AA-8842-B288E66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E46C-E9E1-4B94-9AE1-2903FB8EA7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C3D-472F-44E6-936E-895BC557EC8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969D-3D18-4A79-AF97-06943D2D93C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B0CB-C18F-4620-8EEA-CC9662EA3E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edia Journal 3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Other Sister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MOV000008.avi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75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39:23Z</dcterms:created>
  <dc:creator>Jennifer</dc:creator>
  <dc:description/>
  <dc:language>en-US</dc:language>
  <cp:lastModifiedBy>Jennifer</cp:lastModifiedBy>
  <dcterms:modified xsi:type="dcterms:W3CDTF">2009-07-01T02:50:53Z</dcterms:modified>
  <cp:revision>2</cp:revision>
  <dc:subject/>
  <dc:title>Slide 1</dc:title>
</cp:coreProperties>
</file>